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1371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380880"/>
            <a:ext cx="83059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763120" y="228600"/>
            <a:ext cx="0" cy="61722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52280"/>
            <a:ext cx="2667240" cy="381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XML und Delp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Verdana"/>
              </a:rPr>
              <a:t>XML und Delphi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28954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arbeiten von XML-Dokumen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t Borland Delphi und Kyl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56386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efan Heyma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ittelberger GmbH, Reutlingen, www.kittelberger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685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. Entwickler-Konferenz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OM-Parse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XML-Baum wird komplett als Objekt-Struktur im Speicher aufgeba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andard: W3C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OM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Document Object Mode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avigieren durch den Baum über definierte Interf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OM-Parse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828800"/>
            <a:ext cx="22860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D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22096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2362320"/>
            <a:ext cx="22860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828800"/>
            <a:ext cx="17524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4343400"/>
            <a:ext cx="16002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5410080"/>
            <a:ext cx="16002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r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9051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27432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276360" y="5638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276360" y="4495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27636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3276720"/>
            <a:ext cx="16002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x=fe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38098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ado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3657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71640" y="4038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2895480"/>
            <a:ext cx="16002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487692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ay of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4724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571640" y="5105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94360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5791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571640" y="6172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2438280"/>
            <a:ext cx="17524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0" y="3048120"/>
            <a:ext cx="1752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xt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OM-Parse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+ Selektion von Knoten durch XPath Abfrage-Ausdrüc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+ Manipulation des Ba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+ Schreiben des Baums als X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+ Schreiben von Teilen des Baums als X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fwändiges 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aum muss komplett in den Speicher p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erformance: Dauer für das Laden und Analysieren des Ba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OM-Parser für Delphi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MSXML über COM-Schnittstelle</a:t>
            </a:r>
            <a:br>
              <a:rPr sz="32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sdn.microsoft.com/x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XDOM/OpenXML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philo.d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tor: Dieter Köhl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ktuelle Version: 2.3.16, September 2001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XDOM.pas: 30.871 LOC, 1.201 K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Objekt-Umwandlu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mwandlung von Objekt-Hierarchien in XML und zurü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Verwendung von RT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Im Moment kein „Standard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un/Java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java.sun.com/x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Jeff Rafter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xml.defined.net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(Open Source, Fre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while not eof“-Mentalitä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cannen durch den Baum in einem 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orteil: Status kann in Lokal-Variablen geführt wer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chn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nkbar für sehr große XML-Instanzen, die nicht komplett in den Speicher p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nfaches API, schnell einsetzb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structor.de TXmlPars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estructor.de TXmlParse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ative Delph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ree, Open 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eine Validierung, keine Korrektheitsprüfung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blauf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rzeugen einer Instan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aden mit LoadFrom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artSc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HILE Scan DO 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halte befinden sich in PUBLIC-Proper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90040" y="2666880"/>
            <a:ext cx="207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Mis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Probleme des Parserba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XML soll ja einfach se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nen Parser zu schreiben ist es nic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bleme: Validierung, genaue Umsetzung der Spec, Geschwindigkeit, Unicode-Support (UTF-1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aher nur wenig ernst zu nehmende Parser-Projekte im Delphi-Berei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Welcher Parser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eschwindigke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Code-Qualitä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Muss es wirklich SAX oder DOM sei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Verfügbarkeit, Preis, Open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ortabilität (Kylix, C++, usw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mgebungsbedingunge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y au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i Fragen: fragen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Sit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w3c.org (XML, D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megginson.com (SA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destructor.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xml.defined.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apache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philo.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xml.com, www.xmlhack.com, www.xml101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XML-Newsgroups auf dem Borland-Newsser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744280" y="1981080"/>
            <a:ext cx="350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Fragen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23040" y="2057400"/>
            <a:ext cx="31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&lt;/talk&gt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halts-Übersich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undlegendes zum Par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ser für Delph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ve-Hä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s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26280" y="1523880"/>
            <a:ext cx="538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XML Pars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XML-Verarbeitu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3276720"/>
            <a:ext cx="373356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819520" y="1600200"/>
            <a:ext cx="3990240" cy="1676160"/>
            <a:chOff x="2819520" y="1600200"/>
            <a:chExt cx="3990240" cy="1676160"/>
          </a:xfrm>
        </p:grpSpPr>
        <p:sp>
          <p:nvSpPr>
            <p:cNvPr id="53" name=""/>
            <p:cNvSpPr/>
            <p:nvPr/>
          </p:nvSpPr>
          <p:spPr>
            <a:xfrm>
              <a:off x="2819520" y="1600200"/>
              <a:ext cx="37335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Verdana"/>
                </a:rPr>
                <a:t>Applik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648320" y="25142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36160" y="2666880"/>
              <a:ext cx="207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Verdana"/>
                </a:rPr>
                <a:t>Verarbeit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971800" y="4267080"/>
            <a:ext cx="3526560" cy="1904760"/>
            <a:chOff x="2971800" y="4267080"/>
            <a:chExt cx="3526560" cy="1904760"/>
          </a:xfrm>
        </p:grpSpPr>
        <p:sp>
          <p:nvSpPr>
            <p:cNvPr id="57" name=""/>
            <p:cNvSpPr/>
            <p:nvPr/>
          </p:nvSpPr>
          <p:spPr>
            <a:xfrm>
              <a:off x="2971800" y="5181480"/>
              <a:ext cx="3352680" cy="9903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Verdana"/>
                </a:rPr>
                <a:t>XML-Date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48320" y="4267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40920" y="4343040"/>
              <a:ext cx="16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Verdana"/>
                </a:rPr>
                <a:t>Zerleg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Verdana"/>
                </a:rPr>
                <a:t>Prüf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as Demo-XML-Fi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748440" y="1854360"/>
            <a:ext cx="6901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?xml version="1.0" encoding="ISO-8859-1" 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CDCollec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C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singer gender="female"&gt;Madonna&lt;/sing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title&gt;Ray of Light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tracks&gt;13&lt;/track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/C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C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singer gender="female"&gt;Gloria Estefan&lt;/sing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title&gt;Mi Tierra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tracks&gt;12&lt;/track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/C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Parser-Mentalitäte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vents auslösen: </a:t>
            </a: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SAX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xml.defined.net/sa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lement-Baum aufbauen: </a:t>
            </a: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OM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w3c.org, Microsoft MSXML, www.philo.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Umwandlung in OOP-Objekte</a:t>
            </a:r>
            <a:br>
              <a:rPr sz="32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xml.defined.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WHILE NOT EOF</a:t>
            </a:r>
            <a:br>
              <a:rPr sz="32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destructor.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Event-Parse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ür jeden gefundenen Teil wird ein Event/Callback ausgelö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andard: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AX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(Simple API for XM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chn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pplikation muss selbst wissen, wo sie gerade „steht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nfache Implementier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nkbar für sehr große XML-Instanzen, die nicht komplett in den Speicher p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Event-Parser für Delphi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MSXML 3 kann SA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XDOM/OpenXML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ww.philo.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Keith Wood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xml.defined.net/sa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XmlPartner (kein SA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estructor.de TXmlScanner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(kein SAX)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ww.destructor.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eiter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6T17:09:26Z</dcterms:created>
  <dc:creator>Stefan Heymann</dc:creator>
  <dc:description/>
  <dc:language>en-US</dc:language>
  <cp:lastModifiedBy>Viktor Just</cp:lastModifiedBy>
  <dcterms:modified xsi:type="dcterms:W3CDTF">2001-09-26T20:46:32Z</dcterms:modified>
  <cp:revision>34</cp:revision>
  <dc:subject/>
  <dc:title>XML-Grundlagen</dc:title>
</cp:coreProperties>
</file>